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ashreg.wav" ContentType="audio/x-wav"/>
  <Override PartName="/ppt/media/2.wav" ContentType="audio/x-wav"/>
  <Override PartName="/ppt/media/CHEEPCHP.WAV" ContentType="audio/x-wav"/>
  <Override PartName="/ppt/media/image3.jpeg" ContentType="image/jpeg"/>
  <Override PartName="/ppt/media/BINGBING.WAV" ContentType="audio/x-wav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0BE-79C3-44A9-A13A-3D555964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FB6-3AF2-4BD9-9740-1E185FF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91F-E39D-435E-9633-54862946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7E4-80E0-4237-B30E-7CFE882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433-56CF-4980-9BB4-2277A89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FA6E-BB9A-4C69-8496-89D8D0E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4797-345E-4BD7-AEA9-CA7ACC99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3D8-1EEB-4637-8AA6-9EC7ACDF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C0C-60D1-49B1-8DE8-7FDC7BD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6BB-A77F-4C7F-9AB6-17A7B565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855-CD9D-4DF6-8C9C-EBDD8E2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26D-C2C9-41F6-AC71-2EED984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9349-F2AE-408B-8F68-99A5A94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379-9D38-4911-B42C-7F934A4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C24C-E767-46E1-A60D-3D0B1A96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0135-AEE9-4A89-8F2A-1918A92D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47F-A913-40BF-92DE-CDF3BCD9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F44-9A29-4E55-B896-6DD57C80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FAD-470F-425E-88BB-29F00C7F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498-7E59-44B2-87A0-E9FB334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3F4-DB0D-4FCB-A44E-2BFC5AC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A12-6588-4643-9826-5187D29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16D-0CBB-482E-A148-9BB837D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947-DF14-4956-8060-60A01DD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4A5B-BCFB-491F-8C41-00E2D5819BF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DAA-7F57-4991-A4CA-1DCCFAB74D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2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EEPCHP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BINGBIN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16360" y="836640"/>
            <a:ext cx="3384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دوات علمي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284640"/>
            <a:ext cx="81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Hesham Fostat"/>
              </a:rPr>
              <a:t>المنظــار</a:t>
            </a:r>
            <a:endParaRPr b="1" lang="en-US" sz="8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284640"/>
            <a:ext cx="853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اداة تساعدنا على رؤة الأشياء البعيدة جدا</a:t>
            </a:r>
            <a:r>
              <a:rPr b="0" lang="ar-SA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341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Arial Narrow"/>
              </a:rPr>
              <a:t>المنظ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67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112536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ff"/>
                </a:solidFill>
                <a:latin typeface="Arial Narrow"/>
              </a:rPr>
              <a:t>استخدامات المنظا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1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يستخدم المنظار المختلفة لرؤية الكواكب والنجوم ومعرفة أشياء جديدة عنها حيث يعمل المنظار على تقريب الأشياء البعيدة الى درجة كبيرة جدا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4508640"/>
            <a:ext cx="42494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NGB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549360"/>
            <a:ext cx="6840360" cy="1439640"/>
          </a:xfrm>
          <a:custGeom>
            <a:avLst/>
            <a:gdLst>
              <a:gd name="textAreaLeft" fmla="*/ 855000 w 6840360"/>
              <a:gd name="textAreaRight" fmla="*/ 5985360 w 68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8000"/>
                </a:solidFill>
                <a:latin typeface="Arial Narrow"/>
              </a:rPr>
              <a:t>أنواع المناظير</a:t>
            </a:r>
            <a:r>
              <a:rPr b="0" lang="ar-SA" sz="6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2100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يوجد انواع كثيرة من المناظير منها الكبير والصغير وتقسم حسب استخداماتها . وتوضع بعض المناظير فى الاقمار الصناعية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70700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16:29Z</dcterms:modified>
  <cp:revision>32</cp:revision>
  <dc:subject/>
  <dc:title>PowerPoint Presentation</dc:title>
</cp:coreProperties>
</file>